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art-7"/>
          <p:cNvPicPr/>
          <p:nvPr/>
        </p:nvPicPr>
        <p:blipFill>
          <a:blip r:embed="rId2"/>
          <a:stretch/>
        </p:blipFill>
        <p:spPr>
          <a:xfrm>
            <a:off x="1295280" y="0"/>
            <a:ext cx="78487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Giovanni Boldini-Portrait of Madame Marie-Louise Herouet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Line 9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2514600" y="5562720"/>
            <a:ext cx="5410080" cy="3999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8"/>
          <p:cNvSpPr/>
          <p:nvPr/>
        </p:nvSpPr>
        <p:spPr>
          <a:xfrm>
            <a:off x="2057400" y="685800"/>
            <a:ext cx="63244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Lucida Calligraphy"/>
              </a:rPr>
              <a:t>La Belle Epoque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Lucida Calligraphy"/>
              </a:rPr>
              <a:t>[1871-1914]: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Lucida Calligraphy"/>
              </a:rPr>
              <a:t>“The Beautiful Er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87px-Lippincott_doriangray"/>
          <p:cNvPicPr/>
          <p:nvPr/>
        </p:nvPicPr>
        <p:blipFill>
          <a:blip r:embed="rId1"/>
          <a:stretch/>
        </p:blipFill>
        <p:spPr>
          <a:xfrm>
            <a:off x="2286000" y="990720"/>
            <a:ext cx="3686040" cy="5705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172200" y="2209680"/>
            <a:ext cx="25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car Wilde’s tale of Freudian hedon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447920" y="9540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Trends in Philos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nost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hi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27792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iedrich Nietzsche –”God is De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2000" indent="-403200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Übermens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Super M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istentialism – man defines his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27792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ören Kierkegaard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xistence proceeds es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8360" indent="-73836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SzPct val="110000"/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nal Religious Strug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rnists vs. funda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52480" y="152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295280" y="1447920"/>
            <a:ext cx="40388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-Semi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reyfus Af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odore Herzl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er Judenstaa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he Jewish Sta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], 18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76240" indent="-35064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her of Modern Zionis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676520" y="333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white cruxification"/>
          <p:cNvPicPr/>
          <p:nvPr/>
        </p:nvPicPr>
        <p:blipFill>
          <a:blip r:embed="rId1"/>
          <a:stretch/>
        </p:blipFill>
        <p:spPr>
          <a:xfrm>
            <a:off x="5181480" y="1752480"/>
            <a:ext cx="3633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e5b0"/>
                </a:solidFill>
                <a:latin typeface="Comic Sans MS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Women’s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meline Pankhu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“New”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6.  Militarism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lorification of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752480" y="257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447920" y="1103400"/>
            <a:ext cx="73152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aterialism and hedonism(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42720">
              <a:lnSpc>
                <a:spcPct val="100000"/>
              </a:lnSpc>
              <a:spcBef>
                <a:spcPts val="1624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gher standard of living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lux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42720">
              <a:lnSpc>
                <a:spcPct val="100000"/>
              </a:lnSpc>
              <a:spcBef>
                <a:spcPts val="1624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evelopment “zon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0280" indent="-342720">
              <a:lnSpc>
                <a:spcPct val="100000"/>
              </a:lnSpc>
              <a:spcBef>
                <a:spcPts val="1624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nner Zon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Br, Fr, Ger, Belg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. It,W. Aust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0280" indent="-342720">
              <a:lnSpc>
                <a:spcPct val="100000"/>
              </a:lnSpc>
              <a:spcBef>
                <a:spcPts val="1624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Outer Zon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Ire., Iberian Pen., most of Italy, Europe eas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f G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0280" indent="-342720">
              <a:lnSpc>
                <a:spcPct val="100000"/>
              </a:lnSpc>
              <a:spcBef>
                <a:spcPts val="1624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Underdeveloped Zon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fro-A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seurat_med"/>
          <p:cNvPicPr/>
          <p:nvPr/>
        </p:nvPicPr>
        <p:blipFill>
          <a:blip r:embed="rId1"/>
          <a:stretch/>
        </p:blipFill>
        <p:spPr>
          <a:xfrm>
            <a:off x="1447920" y="533520"/>
            <a:ext cx="7467480" cy="5030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676520" y="579132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Sunday on La Grande Jatte—1884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Georges Seu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905120" y="12733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creased Europea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wth of Cities &amp; Urba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828800" y="1522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aris street, rainy day"/>
          <p:cNvPicPr/>
          <p:nvPr/>
        </p:nvPicPr>
        <p:blipFill>
          <a:blip r:embed="rId1"/>
          <a:stretch/>
        </p:blipFill>
        <p:spPr>
          <a:xfrm>
            <a:off x="2666880" y="2286000"/>
            <a:ext cx="5156280" cy="3995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2971800" y="64771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is Street, Rainy 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Gustave Caillebo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Migration from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850-1940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60 million left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nt to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US, Argentina, Brazil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Canada, Australia/N. Z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“Second” Industrial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am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nal combustion &amp; diesel eng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s, planes, submar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447920" y="954000"/>
            <a:ext cx="74674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” Industrial Revolu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ai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The World’s Industri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Worksho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ss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creased consume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 Trade [esp. in Englan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ld Markets [Global Economy, Part I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vance of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ension of the vote to the working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720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ing a “welfare state”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52480" y="1047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371600" y="1066680"/>
            <a:ext cx="7467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ppeal of Soci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y the 1880s, most socialist parties were Marxist [esp. Ger. &amp; Fr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 very successful in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ith in Science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ce at the core of industr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Wonders” of dail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les 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3984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rigin of Speci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[185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3984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rvival of the fitt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752480" y="2286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523880" y="1728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ith in Science Alone [con’t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cial Darwinism”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erbert Spen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uge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tonian Science turned on its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3984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instei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“Theory of Relativity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nature &amp; energy we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separate &amp; distin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3984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ck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Quantum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52480" y="3049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295280" y="1073160"/>
            <a:ext cx="7696440" cy="53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ith in Science Alone [con’t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42720">
              <a:lnSpc>
                <a:spcPct val="100000"/>
              </a:lnSpc>
              <a:spcBef>
                <a:spcPts val="1500"/>
              </a:spcBef>
              <a:buClr>
                <a:srgbClr val="d28c00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ization of “new” sciences [anthropology, archeaology,etc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3984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2000" indent="-403200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van Pavlov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conditioned respo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232000" indent="-403200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igmund Freud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psycho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805120" indent="-343080">
              <a:lnSpc>
                <a:spcPct val="100000"/>
              </a:lnSpc>
              <a:spcBef>
                <a:spcPts val="1500"/>
              </a:spcBef>
              <a:buClr>
                <a:srgbClr val="ff5050"/>
              </a:buClr>
              <a:buSzPct val="95000"/>
              <a:buFont typeface="Comic Sans MS"/>
              <a:buChar char="o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he Interpretation of Dream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[19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805120" indent="-343080">
              <a:lnSpc>
                <a:spcPct val="100000"/>
              </a:lnSpc>
              <a:spcBef>
                <a:spcPts val="1500"/>
              </a:spcBef>
              <a:buClr>
                <a:srgbClr val="ff5050"/>
              </a:buClr>
              <a:buSzPct val="95000"/>
              <a:buFont typeface="Comic Sans MS"/>
              <a:buChar char="o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ole of the unconscious [the id, ego, super ego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805120" indent="-343080">
              <a:lnSpc>
                <a:spcPct val="100000"/>
              </a:lnSpc>
              <a:spcBef>
                <a:spcPts val="1500"/>
              </a:spcBef>
              <a:buClr>
                <a:srgbClr val="ff5050"/>
              </a:buClr>
              <a:buSzPct val="95000"/>
              <a:buFont typeface="Comic Sans MS"/>
              <a:buChar char="o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llenges Enlighte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752480" y="2286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Lucida Handwriting"/>
              </a:rPr>
              <a:t>Characteristics of La Belle Ep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57:31Z</dcterms:created>
  <dc:creator>Ms. Susan M. Pojer</dc:creator>
  <dc:description/>
  <dc:language>en-US</dc:language>
  <cp:lastModifiedBy>Kuenzi</cp:lastModifiedBy>
  <dcterms:modified xsi:type="dcterms:W3CDTF">2011-03-21T02:31:33Z</dcterms:modified>
  <cp:revision>29</cp:revision>
  <dc:subject/>
  <dc:title>Characteristics of La Belle Epoch</dc:title>
</cp:coreProperties>
</file>